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228786"/>
        <c:axId val="23893027"/>
      </c:barChart>
      <c:catAx>
        <c:axId val="482287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893027"/>
        <c:crosses val="autoZero"/>
        <c:auto val="1"/>
        <c:lblAlgn val="ctr"/>
        <c:lblOffset val="100"/>
        <c:noMultiLvlLbl val="0"/>
      </c:catAx>
      <c:valAx>
        <c:axId val="238930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2287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3D7E-FCB5-4416-B886-2FF0E6E71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73FB-6D5A-401F-825D-8B467880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9DD1-9760-4F88-93DD-32EAEE4D7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DE89-D779-4E7D-9461-645303490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933E-4D26-4E64-8D59-06D88750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39FB-845C-4E61-9C64-82F4ABD6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5AF2-4872-46E8-8D29-A510A779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6799-9C88-48BC-BA8F-5BB691E5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C685-1712-44D2-A8C5-9F102C9D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3A5F-2CFB-4F10-BEE4-880B2A6C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A190-E7A7-44C4-BDD0-DC61D402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A0FF-2078-478A-8624-FD449688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27873B-4519-4384-BD1E-3DF34562C1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