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07801"/>
        <c:axId val="71753214"/>
      </c:barChart>
      <c:catAx>
        <c:axId val="95607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53214"/>
        <c:crosses val="autoZero"/>
        <c:auto val="1"/>
        <c:lblAlgn val="ctr"/>
        <c:lblOffset val="100"/>
        <c:noMultiLvlLbl val="0"/>
      </c:catAx>
      <c:valAx>
        <c:axId val="71753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07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AC0-6DBE-4A91-902A-99F0281C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3AD-73C6-4B70-B6E0-3CEA1AC9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B51-3AED-49DC-8FFA-B703DE81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505-2322-421E-B9E1-2FCDCE76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FEE-E674-478C-93AB-A7D56006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5BA-CD5E-43A4-BFF3-A931ECBC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8D7-C41E-4999-BAF8-653BBB40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ACD-B776-434D-B88A-D1337E26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5CA-5D70-47D3-BBC5-2742584E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FEA-0117-447B-94A6-58D3F3E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882-489A-415D-B19F-4FA402F5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848-F575-4057-93CA-DAB7C33F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281D5-7A50-461A-BAD0-352E847E50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