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49436"/>
        <c:axId val="26913525"/>
      </c:barChart>
      <c:catAx>
        <c:axId val="97749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13525"/>
        <c:crosses val="autoZero"/>
        <c:auto val="1"/>
        <c:lblAlgn val="ctr"/>
        <c:lblOffset val="100"/>
        <c:noMultiLvlLbl val="0"/>
      </c:catAx>
      <c:valAx>
        <c:axId val="26913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49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DA6-BDCE-479D-BFA9-A40346EF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4F9-EB92-45B5-810E-436B8BF9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BA8-635D-43CD-9067-540598BC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C07-7CEC-40D6-A13C-0D87C84C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BA5-83E6-43FD-B5C7-AEE7D0FB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1E8-C1A3-4211-A500-7D7FA689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FA2-9797-432F-A0B0-E957E6A1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666-5E1D-41FD-8EB6-0470AE20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0C9-8837-4BA9-B66B-EEB0A03E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7B8-82BC-4DB9-AB07-0C5D6154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896-6667-47E9-9FDD-7610ED8F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55B-5A89-45DE-8B38-FB3B3897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D0804-38ED-43D4-BDE6-FE7F12122C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