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113977"/>
        <c:axId val="24502578"/>
      </c:barChart>
      <c:catAx>
        <c:axId val="18113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02578"/>
        <c:crosses val="autoZero"/>
        <c:auto val="1"/>
        <c:lblAlgn val="ctr"/>
        <c:lblOffset val="100"/>
        <c:noMultiLvlLbl val="0"/>
      </c:catAx>
      <c:valAx>
        <c:axId val="24502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13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9254-8D07-42CC-AFE8-FE196340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1268-FE47-4A03-8392-5B9B59B7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DD92-3AD3-4D97-9293-84EB3447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590-D05A-42D4-9246-16167C6B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8DD2-2642-4DB6-978C-D0BF7A82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529-38F7-4638-BAE7-45C67379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3AE-542C-4DFD-9888-10AAF828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AD4A-58F0-431D-87A4-C2451EE9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F25B-C13D-472E-9968-0174E610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A942-9AC5-46DF-829E-7269CF2A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94E-C6E7-4BEB-9449-FEFD6AFA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C29-E092-408F-A1F8-9AA34379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80897-774D-409A-98EA-DAD460B5F9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