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25151"/>
        <c:axId val="66542715"/>
      </c:barChart>
      <c:catAx>
        <c:axId val="73525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42715"/>
        <c:crosses val="autoZero"/>
        <c:auto val="1"/>
        <c:lblAlgn val="ctr"/>
        <c:lblOffset val="100"/>
        <c:noMultiLvlLbl val="0"/>
      </c:catAx>
      <c:valAx>
        <c:axId val="66542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25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E00-A69E-45BA-8E0B-9601EFD7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824-F12E-4F2B-B84C-AB127748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2F9-137C-4AFB-A55B-C93932B7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060-18DE-45DD-A67B-924EEEC4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3E6-C11A-4946-9751-5B8E9105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01A-9054-4AD5-A2CD-C794F19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412-506E-421D-B96E-763272D4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0CA-A4B2-4264-8BDC-B02A5F4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D71-05F4-4E23-A90E-E6113B43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12D-75C6-480E-AB11-8919165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312-0589-4B7A-A6AE-A8E55336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A45-4DB9-439D-9386-24C5A47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60DC0-6C5C-4E1D-A2C8-23F8FBA415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