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31402"/>
        <c:axId val="36659330"/>
      </c:barChart>
      <c:catAx>
        <c:axId val="93531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9330"/>
        <c:crosses val="autoZero"/>
        <c:auto val="1"/>
        <c:lblAlgn val="ctr"/>
        <c:lblOffset val="100"/>
        <c:noMultiLvlLbl val="0"/>
      </c:catAx>
      <c:valAx>
        <c:axId val="36659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1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9E3-4895-452A-9CD5-42203D78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39B-23D4-4DCF-B9BC-D97119F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C93-73B1-477C-9604-B6F89DFC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D52-82D3-4C52-B21E-16B09545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7EC-98A8-4DA2-BDEF-DE31A42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698-E220-4017-A4D6-33ED060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9E9-AE78-4884-A89E-DBD2070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FDB-3AD9-4017-BBDC-825EA916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3B7-FE6E-48E3-B66C-67DF416C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008-B751-422C-9A62-2694FBDA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CC5-752E-4A01-9EA4-D45C91A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5A8-B0E9-4F95-AE16-AB29421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7F288-DCD7-4C90-83AC-3978BAB95D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