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7219902"/>
        <c:axId val="14160954"/>
      </c:barChart>
      <c:catAx>
        <c:axId val="2721990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160954"/>
        <c:crosses val="autoZero"/>
        <c:auto val="1"/>
        <c:lblAlgn val="ctr"/>
        <c:lblOffset val="100"/>
        <c:noMultiLvlLbl val="0"/>
      </c:catAx>
      <c:valAx>
        <c:axId val="1416095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21990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7A877-C3BE-4134-B27D-7DFEFC48B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53004-EE9B-43FE-8745-8C2826FAD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4C2FA-2DB0-48AC-A54C-0BBE7813C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B1BAF-A593-4248-9E86-798456C9A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95A9B-3F3E-422E-BBA6-3B99C83E0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F8B6B-1E3F-42AA-93B9-2598FADB2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2C56B-4C90-464D-980A-46192F490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956D1-8B07-4730-B07E-524C54DBD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57213-BA10-406D-B4CC-8AB79E6AF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54469-7262-452E-BAF5-86FBC44A2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799B8-9E19-42FF-ACAC-58BC4B4ED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3B8CF-F287-46E3-A715-947DCEE48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168BD3-C36A-4E1A-9235-0483A588693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