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81074"/>
        <c:axId val="37895447"/>
      </c:barChart>
      <c:catAx>
        <c:axId val="96381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95447"/>
        <c:crosses val="autoZero"/>
        <c:auto val="1"/>
        <c:lblAlgn val="ctr"/>
        <c:lblOffset val="100"/>
        <c:noMultiLvlLbl val="0"/>
      </c:catAx>
      <c:valAx>
        <c:axId val="37895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1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CB0-5F02-4274-AD2A-529C9123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D6C-4A1A-4710-8FBA-E27F323E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1AF-037E-4ED9-AF84-BA803130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551-D45D-44FA-A9DC-99817C67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3B2-477B-4A76-A4F8-08B02477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518-9ED9-49AA-A238-496307F7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EFD-E8EE-4919-8CF9-93BF175E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591-573C-4FDC-A431-E7E87E5C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D22-8BF1-4ECD-9581-2A3243B1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788-31AF-4150-87A9-087A86FF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29A-98A8-418B-9144-0DAC1C54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16F-8058-4CF0-AAF5-728240F9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E03DA-EF07-4518-94AC-DA3380A3B9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