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642332"/>
        <c:axId val="51498794"/>
      </c:barChart>
      <c:catAx>
        <c:axId val="446423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498794"/>
        <c:crosses val="autoZero"/>
        <c:auto val="1"/>
        <c:lblAlgn val="ctr"/>
        <c:lblOffset val="100"/>
        <c:noMultiLvlLbl val="0"/>
      </c:catAx>
      <c:valAx>
        <c:axId val="514987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6423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40D3-151B-436F-98F1-4CA248B8C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90F2-E870-44C5-AE46-B58DB0339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4DF2-2A52-4917-89F3-0EE7FFB61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28C4-5CD8-42FB-9935-4E6E4A7A6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17BC-8DC3-4121-8DDF-44F0F5EE6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EE76-0F60-44F0-8CD7-977FC7D12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646C-7E19-4A91-B9F1-9512A38B1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810B-5C36-47FB-B6B0-9DAC06ADA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7E88-45C4-4BA8-80A2-B2DF1DA1A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B727-8A13-47CD-A6B0-8A8F3A99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EFB1-3EC8-47CA-908F-E08C9E0C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DEC8-C22E-4FD8-AE2D-27B3AF46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7CB26C-D059-4B7B-A629-A1FBC28EAE4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