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80485"/>
        <c:axId val="60506395"/>
      </c:barChart>
      <c:catAx>
        <c:axId val="45804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06395"/>
        <c:crosses val="autoZero"/>
        <c:auto val="1"/>
        <c:lblAlgn val="ctr"/>
        <c:lblOffset val="100"/>
        <c:noMultiLvlLbl val="0"/>
      </c:catAx>
      <c:valAx>
        <c:axId val="60506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04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0E9-BDB8-44EC-8C17-21AE5EE0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F53-E35A-46E7-8C9F-2504A132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9E5-C6F1-46CD-AA65-F4CA1B92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497-5529-40CC-8319-B4D57EEA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F0B2-34EF-4333-801A-B310B58A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9D8-659A-44DA-8F96-BABD5B7C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87E-6003-47F9-BA35-91CB63D1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14BA-F2E4-41F4-BF1F-EF07B3C6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83E-4344-42D3-8507-E7E0BD9C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E1B-C832-4AB9-9D27-7BFD6403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FD5-9089-4361-AD4E-AA15F79C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001-64E9-40B6-8E19-4F50C2BB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66E8D-097A-4B2E-A480-1A9D9885BD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