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3631642"/>
        <c:axId val="27905084"/>
      </c:barChart>
      <c:catAx>
        <c:axId val="7363164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905084"/>
        <c:crosses val="autoZero"/>
        <c:auto val="1"/>
        <c:lblAlgn val="ctr"/>
        <c:lblOffset val="100"/>
        <c:noMultiLvlLbl val="0"/>
      </c:catAx>
      <c:valAx>
        <c:axId val="2790508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63164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8251F-C087-4276-A117-7CBFA3823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2E3E3-51F8-49F1-BC60-0DB7D183C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D3D64-4EDB-45C8-8A80-2C7270DCF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98A5E-443F-4BAB-A244-CB9723D12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20801-2B65-425B-9D91-2FAADB138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D6E7E-C913-4581-9517-117C66ADF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38CE6-EDA3-40E4-A487-6516D74C4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1DF6F-0C6E-4B3B-9FCC-D13CC1CB5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5DABF-8EEA-46EC-B3DE-E6843B41F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999A4-5604-4FD3-B8F2-C1D444ED8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DB3F0-8A66-42E8-9D66-171AB7B4A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9F863-A15C-4B7A-A94F-B7C7D2E40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A0C6FB-EE1A-4A72-B82E-300BD6E5451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