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09796"/>
        <c:axId val="3785676"/>
      </c:barChart>
      <c:catAx>
        <c:axId val="30409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676"/>
        <c:crosses val="autoZero"/>
        <c:auto val="1"/>
        <c:lblAlgn val="ctr"/>
        <c:lblOffset val="100"/>
        <c:noMultiLvlLbl val="0"/>
      </c:catAx>
      <c:valAx>
        <c:axId val="3785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09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759-369F-4D97-AA8A-9624284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06-7CD3-4361-8D33-94BF46AB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8CC-CCEF-4B43-BAD3-4ECE575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8CF-6592-4733-92B3-43BE3718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CBC-41D4-483A-8447-7312F41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090-3F56-40CF-B0AA-21EA0C3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107-C26B-48CB-92FB-53DA0BC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CBA-D6D4-47DF-BAE9-F7CAC28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011-FCAE-4D15-B404-3F1DD90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E9C-732A-4EE5-B9FE-AC5E7B9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72D-4F2F-48CB-8EBF-A67CCC3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A42-B006-40C8-B94B-3CD852B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4FA23-5809-4E2A-9F15-0AB3F1BCF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