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92849"/>
        <c:axId val="72361766"/>
      </c:barChart>
      <c:catAx>
        <c:axId val="61692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61766"/>
        <c:crosses val="autoZero"/>
        <c:auto val="1"/>
        <c:lblAlgn val="ctr"/>
        <c:lblOffset val="100"/>
        <c:noMultiLvlLbl val="0"/>
      </c:catAx>
      <c:valAx>
        <c:axId val="72361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2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A68-FE14-4DC8-9535-D7E4B110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181-361A-42E2-9B05-28D4747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4A6-DF42-493E-ADE4-654D4276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5D9-12CE-45A9-A1B3-7EE324D6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FB5-1761-4B85-851B-8B2DCA0B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982-466D-4CB3-AB1C-A07CB98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EC0-17D5-4FC5-BDE0-DC7B0B8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0E3-8315-4A90-B659-624F770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854-4047-4A18-9FD3-08D2E2D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30C-D3FF-4FAC-851E-0BF5194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802-1B91-4AF4-B652-A8A084E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340-93D6-439B-875E-163DDB16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F748C-EBAC-45A7-80D6-9E795824D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