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198662"/>
        <c:axId val="44614817"/>
      </c:barChart>
      <c:catAx>
        <c:axId val="241986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14817"/>
        <c:crosses val="autoZero"/>
        <c:auto val="1"/>
        <c:lblAlgn val="ctr"/>
        <c:lblOffset val="100"/>
        <c:noMultiLvlLbl val="0"/>
      </c:catAx>
      <c:valAx>
        <c:axId val="446148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986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2948-4343-4F90-BC74-D6DCB2CC0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92A1-8286-4FD9-9119-C786D845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F64E-9F8E-4E52-BB7F-6D0FC9BDB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7C39-D3E3-45A3-A296-BFC5FCC43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235B-8336-4939-BDE7-697842EE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3B23-813F-4A4B-AF91-D0E70445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6AB0-AC74-4851-A02C-FA0048EB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116F-7B9A-404D-836A-C809D7CF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1313-4BDC-4DD2-AD33-66EB1758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4647-3C74-45C0-8BF1-C9E9C739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6F2B-600C-4789-8754-B0DEC64F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7120-7F33-4D6E-B5DF-9776554C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04428-0BC4-46BC-B55C-5054E44120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