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82696"/>
        <c:axId val="59910753"/>
      </c:barChart>
      <c:catAx>
        <c:axId val="795826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10753"/>
        <c:crosses val="autoZero"/>
        <c:auto val="1"/>
        <c:lblAlgn val="ctr"/>
        <c:lblOffset val="100"/>
        <c:noMultiLvlLbl val="0"/>
      </c:catAx>
      <c:valAx>
        <c:axId val="599107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826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4C40-2B01-4EC1-9748-0DF0359F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3536-FE28-4EA2-8290-3F1B5EE1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7F07-AA6C-4777-B03E-24F8C9AA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EE94-DFCE-45D9-9134-B9752A012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A88-89C6-4A9E-BCA0-1988EBD9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6E5E-3C89-4CD8-A413-0159FDDF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B97B-E579-413B-ADDD-21AEB9AD3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9E58-16A6-43F2-9155-4ABBF62C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47B-7AC6-4157-BD1E-41A856175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36EA-F280-422A-9252-768A05E46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D617-BE9E-4292-9867-C5223594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D96-8968-4C1B-A78A-CE3B1149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ED866-9107-40A6-B17C-A4D0AD1F03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