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08269"/>
        <c:axId val="57211230"/>
      </c:barChart>
      <c:catAx>
        <c:axId val="50808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11230"/>
        <c:crosses val="autoZero"/>
        <c:auto val="1"/>
        <c:lblAlgn val="ctr"/>
        <c:lblOffset val="100"/>
        <c:noMultiLvlLbl val="0"/>
      </c:catAx>
      <c:valAx>
        <c:axId val="57211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08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4D6-BDE8-45F3-8358-BC7DD2A0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807-511B-4324-B836-A2845957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C0C-BA06-454A-8D69-A608302B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FA0-DC71-4F1A-85C9-82458DEA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108-793F-43AE-9F6A-C73D27DA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7D7-5B19-4D15-BE26-0E9A176F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EEC-B17B-4459-A10D-8C232743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0B7-78AE-47BC-91A3-EB02B289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00A-78E8-49C9-8655-7E393D5C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DC7-DD68-43A0-8050-5D4D903A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71D-A64F-4F80-8E50-6FF7FD4E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E73-41A5-47B7-9A6F-A7EC968D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9B4A4-99D1-445A-B038-A318E5A129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