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03765"/>
        <c:axId val="45274523"/>
      </c:barChart>
      <c:catAx>
        <c:axId val="2660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74523"/>
        <c:crosses val="autoZero"/>
        <c:auto val="1"/>
        <c:lblAlgn val="ctr"/>
        <c:lblOffset val="100"/>
        <c:noMultiLvlLbl val="0"/>
      </c:catAx>
      <c:valAx>
        <c:axId val="45274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0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00B-ACC3-4A80-B16D-D5EB243A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364-72FC-46BA-A2F3-2030E748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D3E-6FB3-401B-8515-2A63DB54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9C0-C428-4CF4-8B41-B0E4537B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B36-71DB-4347-BED5-6B46CFB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EDB-4B4D-464C-AC90-BC26400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984-C5B3-49C1-8594-CAE3B12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2C5-30BA-45D8-B53F-F9A98CD6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EE8-C207-4B69-AAB7-F6EFCD4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79B-1DA2-42B4-B18C-4E7551A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008-BF6B-4E62-A6B5-3E53645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419-A4B2-4303-94E3-E008C25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CB8E8-8AAA-44D4-A129-B5EAB5D39C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