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56113"/>
        <c:axId val="95661807"/>
      </c:barChart>
      <c:catAx>
        <c:axId val="86656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1807"/>
        <c:crosses val="autoZero"/>
        <c:auto val="1"/>
        <c:lblAlgn val="ctr"/>
        <c:lblOffset val="100"/>
        <c:noMultiLvlLbl val="0"/>
      </c:catAx>
      <c:valAx>
        <c:axId val="95661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56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CE7-8F3C-4307-8B63-A0CA8F18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28F-B4D1-44F3-8171-9F095745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40D-B0C1-4BE3-B27B-D8C1DC68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4C0-5BA4-44FC-B223-FD848901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BAF-91FC-4F42-BD0F-E36C41C1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928-C9EB-4221-911B-8CCC2981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FC6-524F-48CA-9D62-ADFD58BD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FAA-3033-4527-97B2-3D26402D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78B-1AC5-46EF-AA96-CDE6C25F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D60-4D2E-4AD4-889C-9ADA1C21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5C1-B579-4F74-A119-1B62164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12E-E4EE-4CA8-A47B-E31045C3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EC084-2FCB-471A-8909-E3C508DF4E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