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932154"/>
        <c:axId val="57211788"/>
      </c:barChart>
      <c:catAx>
        <c:axId val="569321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211788"/>
        <c:crosses val="autoZero"/>
        <c:auto val="1"/>
        <c:lblAlgn val="ctr"/>
        <c:lblOffset val="100"/>
        <c:noMultiLvlLbl val="0"/>
      </c:catAx>
      <c:valAx>
        <c:axId val="572117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321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C9D76-83BB-4685-8E08-A6F3FDA4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C6B-B6ED-4D88-B52F-73F248A92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92AE-FB8C-44DE-BA3A-DB17CAA18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37588-FCE7-4F08-B5D8-F103FA897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CA6B-27E4-424A-A76A-675675612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E8A9-CFCA-42DE-B5AE-02A33053A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90DF-092D-41DE-BFE7-6F11B8A5E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5D8B-2C3C-4668-AB5E-F7CE7936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2FC1-AD04-4CA0-B3B2-63B7837C5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69EE-6830-4B72-B831-71795BDE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20CA-A5EF-45C7-9FD3-C978D2CD2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51C8-F870-457C-9E2E-AFA452B47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78BCF-6D74-4C99-BB24-B497BDB3956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