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66769"/>
        <c:axId val="34686889"/>
      </c:barChart>
      <c:catAx>
        <c:axId val="27966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86889"/>
        <c:crosses val="autoZero"/>
        <c:auto val="1"/>
        <c:lblAlgn val="ctr"/>
        <c:lblOffset val="100"/>
        <c:noMultiLvlLbl val="0"/>
      </c:catAx>
      <c:valAx>
        <c:axId val="34686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66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F35-20B0-45F0-91E2-A1C00F7D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6D5-CFA6-4DA3-8A57-F8921023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2AB-160D-43B9-B866-5FB4510A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BF8-A845-4F3D-BAF1-314326F6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8F7-0BC9-4C46-9AE8-FCBA837A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0B3-61E6-4321-A60A-83EB47BF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508-D6B8-424D-AD0D-B253864B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956-FA2D-4C02-83E8-31180882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C2C4-8767-4370-A171-B6BFC563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5AC-383F-49D0-916B-0211B742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1BE-05E9-4FBB-81EC-5A247AD2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C2A-A23C-4240-A607-019E8DA1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BBAA5-B7AE-4BFF-81E3-004774E132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