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91227"/>
        <c:axId val="35418246"/>
      </c:barChart>
      <c:catAx>
        <c:axId val="66291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18246"/>
        <c:crosses val="autoZero"/>
        <c:auto val="1"/>
        <c:lblAlgn val="ctr"/>
        <c:lblOffset val="100"/>
        <c:noMultiLvlLbl val="0"/>
      </c:catAx>
      <c:valAx>
        <c:axId val="35418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91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72C-A274-4A47-B7BF-FCCA1369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8FD-25B7-4F7A-927E-436F185E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189-ADD3-491E-A6E6-B70D3ED7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79C-E2D6-4F6F-8966-AE473066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A4C-91ED-47EA-ACDC-B49EBD44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8D6-F8F3-4B1F-9D3C-5E7060ED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F1F-86AA-47D7-802F-F46163DE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A92-5060-4574-B5F4-C5DF1E28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67A-0A9A-441C-931D-96AA6954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E59B-A35F-4950-86DE-3E718E21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0F7-9538-416F-8100-6D770365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121-348A-4753-B05F-C0A6AF85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5028A-AA66-4265-A80A-C00FBDBAC4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