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67507"/>
        <c:axId val="69659750"/>
      </c:barChart>
      <c:catAx>
        <c:axId val="71167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59750"/>
        <c:crosses val="autoZero"/>
        <c:auto val="1"/>
        <c:lblAlgn val="ctr"/>
        <c:lblOffset val="100"/>
        <c:noMultiLvlLbl val="0"/>
      </c:catAx>
      <c:valAx>
        <c:axId val="69659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67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06C-6A55-4379-A41C-4440AA4C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468-0CC9-4C44-A7DC-2D9EB377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A4A-D180-497A-807E-30808172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603-569A-4191-9A5F-05CAC22B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37C-F61D-4EB4-A511-2700D969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724-050B-4683-8B9E-D703F0F2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044-3BCF-4044-8055-1F49E095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011B-62D5-4263-AFEC-6F038B41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7F6-6AC4-4E43-8B93-9D2A494B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3D1-C623-4723-8B9A-B8ADC9C9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684-014E-43A6-88F5-744307F7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431-75B9-42EF-B1E6-C0B9704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E276E-1BB5-47C9-848A-920B2115C5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