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6252"/>
        <c:axId val="71150756"/>
      </c:barChart>
      <c:catAx>
        <c:axId val="9276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50756"/>
        <c:crosses val="autoZero"/>
        <c:auto val="1"/>
        <c:lblAlgn val="ctr"/>
        <c:lblOffset val="100"/>
        <c:noMultiLvlLbl val="0"/>
      </c:catAx>
      <c:valAx>
        <c:axId val="71150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6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A04-CF15-4F8F-AACC-CB1E3F44B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843-4B33-46FF-B255-6F68A0DD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FD4-B9C6-4256-B555-3998BC88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8C29-793B-4F26-AF55-4682896B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BA12-EBE5-4D69-BA41-CEC5F251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7E0-2C0E-4797-9A77-BA78BB41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52D-29F3-4091-B06F-3EE652E2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1468-2BFB-4356-B1BB-17A1F3CA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1E0-F770-42A3-9980-88DB1B19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7C1-2B4F-4F3C-8292-E197DF2F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87D-81BC-4C2A-A097-FEE52C42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9143-415D-4632-AABF-BD1C96E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F5B76-0753-4674-AE7F-265079CA3C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