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11486"/>
        <c:axId val="54486676"/>
      </c:barChart>
      <c:catAx>
        <c:axId val="45311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86676"/>
        <c:crosses val="autoZero"/>
        <c:auto val="1"/>
        <c:lblAlgn val="ctr"/>
        <c:lblOffset val="100"/>
        <c:noMultiLvlLbl val="0"/>
      </c:catAx>
      <c:valAx>
        <c:axId val="54486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11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12F-D02C-406E-B416-C634875D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9FA-89F8-4CD7-B6B8-21BBA0A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984-0786-4148-BA0A-10AC6EA1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3F5-39CB-4150-8F18-C4FB86A4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9A6-008A-4CB1-B493-ACF250E4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944-ACF5-4155-B1D3-BA915FC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61A-7D15-4859-B86F-3E9A5FA2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FAA-B297-415E-B8D9-A513BC6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90F-8F6C-4AB0-8443-986BF33E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010-8FA1-454D-8485-4F2242F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591-7AAE-4A02-B2CA-019E7E1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385-CF4A-4392-83FD-71EA00F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9F39F-2F1C-4AFF-9D55-CEFA01A6C0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