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895492"/>
        <c:axId val="3693618"/>
      </c:barChart>
      <c:catAx>
        <c:axId val="318954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3618"/>
        <c:crosses val="autoZero"/>
        <c:auto val="1"/>
        <c:lblAlgn val="ctr"/>
        <c:lblOffset val="100"/>
        <c:noMultiLvlLbl val="0"/>
      </c:catAx>
      <c:valAx>
        <c:axId val="36936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954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2920-58C7-45DC-B262-E5D2F184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EA1C-B4F4-49C7-8310-220E4D3F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5C5F-726E-43F1-A022-A29DD479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0854-0130-4827-BEF8-4002E325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132D-9926-448B-A541-78519A4B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3F4C-3B95-458F-9225-0ACD4377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3340-0702-40EF-98B2-77A2DDDD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D96C-DD96-4873-853B-B06BB782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E2C7-6FB8-420C-96F1-69426632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EFBF-24A0-4B6F-91B9-C823BDF3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00D9-4495-4885-9C57-39D7A6A3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4DB8-3B3F-4301-9FA7-FCF15F83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FADBC-5150-40E7-9C5E-E488DE3C96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