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66555"/>
        <c:axId val="81394176"/>
      </c:barChart>
      <c:catAx>
        <c:axId val="825665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94176"/>
        <c:crosses val="autoZero"/>
        <c:auto val="1"/>
        <c:lblAlgn val="ctr"/>
        <c:lblOffset val="100"/>
        <c:noMultiLvlLbl val="0"/>
      </c:catAx>
      <c:valAx>
        <c:axId val="81394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665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C07-F25C-4582-A81B-1BA7EB56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154-DC8D-41B8-AEB4-EBF2186A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41B-580B-46EB-BB77-9B8D8BFD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3E0-C221-4327-BC55-8CFCF435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008-502E-4840-8E79-3A1C981E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86B-F104-4AC1-99F4-E4A1E918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A44-4435-4EA9-A82D-66F26944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1E8-153B-49BE-88C7-074EEEDF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669-1A65-469E-8F9B-667530B5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7E5-65E7-4390-B8E6-0DA1F33D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028-E63C-4C93-8632-CF63F0B9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6B8-4039-48BF-9226-E705897E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B88F1-562D-4A32-86B8-BA8E160902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