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28382"/>
        <c:axId val="19444032"/>
      </c:barChart>
      <c:catAx>
        <c:axId val="17428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44032"/>
        <c:crosses val="autoZero"/>
        <c:auto val="1"/>
        <c:lblAlgn val="ctr"/>
        <c:lblOffset val="100"/>
        <c:noMultiLvlLbl val="0"/>
      </c:catAx>
      <c:valAx>
        <c:axId val="194440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28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3A32-F89E-4220-9198-341E102B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8C7D-3BB3-4C26-BE2D-6BA9C938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20E-09FE-45CA-891D-1B5824CF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47A-E572-450A-9FAC-55322A51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74C1-E144-4B64-991F-E636DCD0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8DF-6ED7-4A01-B58A-8D2D56F6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EF0D-3FB8-4DD1-B3DA-8BB8D489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F44A-777D-4F2A-AC42-A4BDBDBB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22F8-EBDE-4EA7-92AC-81AC9653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E72-D7B4-41DD-AA21-182F1D4A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5CD4-5D49-4884-A6A8-81679918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3626-C85B-4468-8117-5AC57726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84DE9-75E9-4002-A25D-B2C200AD23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