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87779"/>
        <c:axId val="35481778"/>
      </c:barChart>
      <c:catAx>
        <c:axId val="12687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81778"/>
        <c:crosses val="autoZero"/>
        <c:auto val="1"/>
        <c:lblAlgn val="ctr"/>
        <c:lblOffset val="100"/>
        <c:noMultiLvlLbl val="0"/>
      </c:catAx>
      <c:valAx>
        <c:axId val="35481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87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7F5-D123-4606-AE81-7C0C0C2E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199-9600-4E44-9EBF-95C8CF30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BE0-3242-42E3-A88F-3C556E4A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8BC-FBAE-429B-8F15-A33C7EA1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985-701C-4B88-A5AC-4949A2CA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A51-C9BB-43FC-9FD3-FBF727B7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1A4-F2CB-4C6E-BAB2-1EA3B20D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FAD-874F-4832-8FFF-2CBD19F8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55B-0A3B-4655-A202-C4D590A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342-6EA6-4B51-A1F9-3DBFCAF4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712-27EF-4995-AEE0-F269A73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E1D-C7F4-46AE-A406-A09C963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CA36B-99AD-41B9-9A23-8E5ECCA6E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