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15715"/>
        <c:axId val="49785481"/>
      </c:barChart>
      <c:catAx>
        <c:axId val="62115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85481"/>
        <c:crosses val="autoZero"/>
        <c:auto val="1"/>
        <c:lblAlgn val="ctr"/>
        <c:lblOffset val="100"/>
        <c:noMultiLvlLbl val="0"/>
      </c:catAx>
      <c:valAx>
        <c:axId val="49785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15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632-72A2-4C1D-A8E1-EB3CCB63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C28-8B0C-4676-9A8F-DA168100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E42-A816-446E-B960-E3859BBA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F8C-599C-4F85-B265-9CC9F086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4DA-3EE6-4924-9CC6-E8567EC0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8C0-1225-412F-807A-CCCE590F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D51-39FD-409F-8543-15D656A8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9B7-B2DF-49C1-91F9-8AF9C146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281-B347-41A9-BA12-93B76B06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09D-70C8-4B3C-8B2B-8365F77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DE9-18C7-437F-9B88-47BA805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2F9-D326-4323-8716-AE6A3CF8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C8C85-D098-47CC-A35C-9EBDDA4617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