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553444"/>
        <c:axId val="76075383"/>
      </c:barChart>
      <c:catAx>
        <c:axId val="61553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75383"/>
        <c:crosses val="autoZero"/>
        <c:auto val="1"/>
        <c:lblAlgn val="ctr"/>
        <c:lblOffset val="100"/>
        <c:noMultiLvlLbl val="0"/>
      </c:catAx>
      <c:valAx>
        <c:axId val="76075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53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43E-4175-41C4-BE3A-D5F5D036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1D5-BBC7-49F9-87EC-4F23F25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212E-7BEB-4E94-9593-4839949E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6F5-B6D0-4038-849C-395603E9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ECD-E10B-4A82-B8F5-3FC1FA67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E1E-7419-48AC-86EA-4353EDD6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F1A-462B-4468-AC20-96572793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4EE-380C-4FC5-987C-FB882C22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5E0-9669-472A-9244-EE3C24F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B0E-AABD-44EF-988F-55FB603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3DB-B18A-4F61-8877-1942CD4E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E88-5299-44E9-B4D0-6EE5412E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DE45C-12D9-416B-8088-1AD3AD7017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