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85006"/>
        <c:axId val="2873483"/>
      </c:barChart>
      <c:catAx>
        <c:axId val="12850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3483"/>
        <c:crosses val="autoZero"/>
        <c:auto val="1"/>
        <c:lblAlgn val="ctr"/>
        <c:lblOffset val="100"/>
        <c:noMultiLvlLbl val="0"/>
      </c:catAx>
      <c:valAx>
        <c:axId val="28734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50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04C-FC6F-4A57-893C-F988783B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2B1-2DCA-4706-A796-46517F16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A19E-86BC-442A-9DFD-C8D12B08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B647-6C4E-4AC9-9EB4-D7ACA743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6194-8CF4-413C-AFFC-0BF08AC9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97B-C91D-481E-9DC9-E8A45EAF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D68-37AC-487A-9657-8851427A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650A-4E0B-4CDD-B880-8A8E5222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AE13-2710-44D6-B100-B74D452E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6C1E-C78A-48C8-B6BF-2642461A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5BC8-D8FF-4396-97DA-0E204E76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556D-7875-4655-BDB8-8EE25897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CDBE9-CEA1-4677-AFBC-EF271F0E56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