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24467"/>
        <c:axId val="74374939"/>
      </c:barChart>
      <c:catAx>
        <c:axId val="67024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74939"/>
        <c:crosses val="autoZero"/>
        <c:auto val="1"/>
        <c:lblAlgn val="ctr"/>
        <c:lblOffset val="100"/>
        <c:noMultiLvlLbl val="0"/>
      </c:catAx>
      <c:valAx>
        <c:axId val="74374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24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0AB6-DDD6-47FA-9FED-BE1266B7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07B0-C74E-4035-A6CE-4C6089EF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8E1B-B7C9-4EC0-A52E-7963F843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257-D7F7-44FC-A415-097A707C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BD7-E734-4382-A843-09B5ACCE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07D4-3B30-4ABD-AE57-4558A88D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33A6-A906-4260-89CC-3C040E4C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FC6-6B4D-451E-B7F1-7C5408B1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D00F-81FF-4009-8378-F05A018B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BCE5-FE15-45A5-B3E6-5A239EF1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159-FEBF-4BF7-947B-3E51280A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85FA-BC21-4E5F-9D1F-62E51A82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55CC1-0348-4F08-B045-BAD6EB1F8F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