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66060"/>
        <c:axId val="22277545"/>
      </c:barChart>
      <c:catAx>
        <c:axId val="17966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77545"/>
        <c:crosses val="autoZero"/>
        <c:auto val="1"/>
        <c:lblAlgn val="ctr"/>
        <c:lblOffset val="100"/>
        <c:noMultiLvlLbl val="0"/>
      </c:catAx>
      <c:valAx>
        <c:axId val="22277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66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82B-1603-4B8A-B2BD-C7A052BC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1C6-D788-4CA7-B748-358CA078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AAB-7AFE-48D9-B490-2158F7F3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165-B73C-4A9A-A344-298C21F1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9F3-4D08-49EC-B45D-A4D3A7B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108-26F6-4FCB-B727-B1A9435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38D-2F83-4B89-9F1B-B6057F84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EFF-ABD3-433A-A8A6-806BD8ED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675-8F2E-413B-A636-AF0442A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018-1ADA-4244-8766-6D83F9B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C25-4769-4B05-B3E2-408330F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600-F13E-4452-9931-F4F2202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EDBA2-5954-4FF6-ABF5-AAAB2313C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