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27655"/>
        <c:axId val="49183927"/>
      </c:barChart>
      <c:catAx>
        <c:axId val="35727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83927"/>
        <c:crosses val="autoZero"/>
        <c:auto val="1"/>
        <c:lblAlgn val="ctr"/>
        <c:lblOffset val="100"/>
        <c:noMultiLvlLbl val="0"/>
      </c:catAx>
      <c:valAx>
        <c:axId val="49183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27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33E-D86B-45CA-A481-C5B6B652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64E-5BC6-4F7B-9562-EFC26CF4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6D1-BAB4-49D5-BC37-B8A9C4F9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188-91BD-4A19-851D-1D1D06C3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F08-C9E2-4DF7-B27F-92BEF735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C15-64DB-442D-BD7E-34133A37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A65-5763-4732-A6BC-FF368A0D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BFA-5987-4A9B-B0B6-1A7441B2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A43-B17C-4E3E-8738-1A06C8C7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D7B-2F61-47D5-AA11-63761B9C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FA6-EF5B-4829-B705-10316596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326-6254-4C80-B010-23422FB2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D73BA-F03A-44EF-8FAC-863CB9D834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