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623156"/>
        <c:axId val="87918274"/>
      </c:barChart>
      <c:catAx>
        <c:axId val="466231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918274"/>
        <c:crosses val="autoZero"/>
        <c:auto val="1"/>
        <c:lblAlgn val="ctr"/>
        <c:lblOffset val="100"/>
        <c:noMultiLvlLbl val="0"/>
      </c:catAx>
      <c:valAx>
        <c:axId val="879182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6231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EE07-6899-4560-9954-546292397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931D-9721-4408-B861-F9D1B089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6488-AD77-455E-B1FE-F9730D7C7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514A-5FF1-4ECB-84A9-B7E3F066E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AF92-418C-434A-95AF-C754AA92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EB12-12DB-443F-B76E-B6101B5C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5109-C582-4825-8E0D-0547DD2C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563D-0E79-4AE9-9F7F-D8436148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FA7F-DEFB-4DAA-BBF0-80DB392C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7910-607D-4678-A0AB-9CD407FD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44C6-C0E0-4E23-A345-3879F446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F1DD-D427-42E3-8B91-FB19E2B6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F56B5E-FEDB-4CCB-867C-C0A7B9BA17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