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97501"/>
        <c:axId val="33245509"/>
      </c:barChart>
      <c:catAx>
        <c:axId val="83197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45509"/>
        <c:crosses val="autoZero"/>
        <c:auto val="1"/>
        <c:lblAlgn val="ctr"/>
        <c:lblOffset val="100"/>
        <c:noMultiLvlLbl val="0"/>
      </c:catAx>
      <c:valAx>
        <c:axId val="3324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7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66F-9ACC-4A0B-A949-EE10237C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EC6-89D5-466C-9CB7-D3E2DC0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306-718F-4019-A455-E737AD54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E79-C8A9-4618-995D-6135B791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F04-D607-467A-8CD8-6AF86383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022-3BFA-4E93-A373-C3E9658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4F1-334B-4715-BB56-10FCB980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404-D7D0-48F4-9F5D-4C87B36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F83-ABF1-41F3-BA48-B288056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091-2475-4C79-8BB4-AF44EB3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10-4CF6-40B9-A105-5095FB7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4EC-AA61-40B2-A9B7-F9C8CB0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6FD16-AADC-4478-A68F-53320081A9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